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B672-520F-4853-A1CF-D0C636D61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F4689-081B-4237-BB39-24509D411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FC9A2-81EF-42F9-A714-28B0148E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36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23672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7964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0836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23672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FD0-3447-4607-9FE7-B28E12653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98E7B-F70E-4B95-8604-8A445535F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614CF-6818-47D2-B005-E83819B2B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11C7F-F790-4869-96AC-49233AABB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7F2F5-3827-4B73-A004-77C217ADB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6F2EA-7D2C-45EB-9BD4-080756CD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071D3-4A26-4152-9E02-6CB189210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1045-49E3-4933-A542-5576A71B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BD67-9845-417E-ABDA-98DBFFC4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B7AD-5E0F-40E5-B804-5835E539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0383-8864-4977-BC2A-E82ACE8BC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337C-ABEA-40EB-8D0C-5EA1630B7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3483-0094-4C0D-84C7-C14C6BAF2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0836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236720" y="-36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7964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60836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236720" y="1990080"/>
            <a:ext cx="25030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200C7-F758-466E-A9F8-D8A654952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979B-1FCE-4876-91A0-D70A9822F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3C63-2C62-457E-B87D-8DB49FE9C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DF394-F624-4CAE-8299-83A5EA91E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34920" y="301320"/>
            <a:ext cx="6154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92933-960B-4FAC-AF80-8145D3152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A5BD-FB29-4FDE-8761-17AA7BA4C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963040" y="199008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B20-8A4F-4C19-B5E4-E84348B2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796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963040" y="-360"/>
            <a:ext cx="379332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79640" y="1990080"/>
            <a:ext cx="777384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3861-D06A-4DAA-A23F-3733C5BE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78D6F6-07BC-4CD0-8E7C-3615DEEF9C5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34920" y="301320"/>
            <a:ext cx="6154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79640" y="-360"/>
            <a:ext cx="777384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763640" y="6094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203720" y="670716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515000" y="670716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CC893C-1D99-4512-9649-D192A6B667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44280" y="2943360"/>
            <a:ext cx="615636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The Boston Tea Party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072880" y="7952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o Did it happen to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139400" y="267984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to the British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530080" y="3380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at hapened?             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599840" y="2749680"/>
            <a:ext cx="7775640" cy="2279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6000"/>
          </a:bodyPr>
          <a:p>
            <a:pPr marL="3290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December 16, colonists disguised as American Indians, snuck onto the three tea-filled ships. After dumping 342 tea chests into the Boston harbor, the colonists headed home to remove their disqui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5680" y="338040"/>
            <a:ext cx="615636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en did it happen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14040" y="267984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on December 16</a:t>
            </a:r>
            <a:r>
              <a:rPr b="0" lang="en-US" sz="3200" spc="-1" strike="noStrike" baseline="33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tween 6 and 9 p.m. In 177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844280" y="885960"/>
            <a:ext cx="6156360" cy="1171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ere did it happen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42640" y="297180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at the Boston Harb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952200"/>
            <a:ext cx="982980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601200"/>
                <a:tab algn="l" pos="10058400"/>
                <a:tab algn="l" pos="10515600"/>
              </a:tabLst>
            </a:pPr>
            <a:r>
              <a:rPr b="1" i="1" lang="en-US" sz="4400" spc="-1" strike="noStrike">
                <a:solidFill>
                  <a:srgbClr val="800000"/>
                </a:solidFill>
                <a:latin typeface="Arial"/>
              </a:rPr>
              <a:t>Why did it happen, and what was the outcome?</a:t>
            </a:r>
            <a:endParaRPr b="1" i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39400" y="2514600"/>
            <a:ext cx="777564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because of the taxes on tea and because of this Paliament created new la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3T17:16:10Z</dcterms:created>
  <dc:creator/>
  <dc:description/>
  <dc:language>en-US</dc:language>
  <cp:lastModifiedBy/>
  <cp:revision>1</cp:revision>
  <dc:subject/>
  <dc:title/>
</cp:coreProperties>
</file>